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C2C-A9E3-4DDC-AF68-0B14BA36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B34-F57E-430C-BCE1-5DCD7FEC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4BE-168B-42B2-9057-606155A6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02C-3675-4676-9DF2-0EEFAB52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707-64AF-447A-9F09-2A1E159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490-9E77-4095-A41B-7A269BFD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33E-EDF7-40FC-9C6B-EE5CD1B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5A5-3A68-4859-863B-D673B81A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3F7-6BCB-4947-8D67-663C582D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806-4E20-40B2-BCDA-3A436DC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4B7-E1CA-45D5-A78E-BE27278B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0B7-EC1A-478E-9851-A90B48B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D8D-7F54-4F9C-AE3B-98D0496F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5.gif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52320" y="2144880"/>
            <a:ext cx="783936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a00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ă ne jucăm cu literele,</a:t>
            </a:r>
            <a:endParaRPr b="0" lang="en-US" sz="6600" spc="1" strike="noStrike">
              <a:ln w="1260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a00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a00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u silabele şi cuvintele!</a:t>
            </a:r>
            <a:endParaRPr b="0" lang="en-US" sz="6600" spc="1" strike="noStrike">
              <a:ln w="1260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a00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bluish"/>
          <p:cNvPicPr/>
          <p:nvPr/>
        </p:nvPicPr>
        <p:blipFill>
          <a:blip r:embed="rId2"/>
          <a:stretch/>
        </p:blipFill>
        <p:spPr>
          <a:xfrm>
            <a:off x="152280" y="22096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bluish"/>
          <p:cNvPicPr/>
          <p:nvPr/>
        </p:nvPicPr>
        <p:blipFill>
          <a:blip r:embed="rId4"/>
          <a:stretch/>
        </p:blipFill>
        <p:spPr>
          <a:xfrm>
            <a:off x="1981080" y="22096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182880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bluish"/>
          <p:cNvPicPr/>
          <p:nvPr/>
        </p:nvPicPr>
        <p:blipFill>
          <a:blip r:embed="rId6"/>
          <a:stretch/>
        </p:blipFill>
        <p:spPr>
          <a:xfrm>
            <a:off x="3809880" y="22096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365760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bluish"/>
          <p:cNvPicPr/>
          <p:nvPr/>
        </p:nvPicPr>
        <p:blipFill>
          <a:blip r:embed="rId8"/>
          <a:stretch/>
        </p:blipFill>
        <p:spPr>
          <a:xfrm>
            <a:off x="5562720" y="22096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548640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bluish"/>
          <p:cNvPicPr/>
          <p:nvPr/>
        </p:nvPicPr>
        <p:blipFill>
          <a:blip r:embed="rId10"/>
          <a:stretch/>
        </p:blipFill>
        <p:spPr>
          <a:xfrm>
            <a:off x="7391520" y="22096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1"/>
          <a:stretch/>
        </p:blipFill>
        <p:spPr>
          <a:xfrm>
            <a:off x="7315200" y="914400"/>
            <a:ext cx="1828800" cy="1447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8088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And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5238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unic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1523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me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648320"/>
            <a:ext cx="81532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0100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71800" y="5791320"/>
            <a:ext cx="29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arte bin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Ordonează cuvintele pentru a obţine o propoziţie, prin click pe cuvânt. Scrie apoi propoziţia, corect, în case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Easter Bunny Blue"/>
          <p:cNvPicPr/>
          <p:nvPr/>
        </p:nvPicPr>
        <p:blipFill>
          <a:blip r:embed="rId2"/>
          <a:stretch/>
        </p:blipFill>
        <p:spPr>
          <a:xfrm>
            <a:off x="4019400" y="6858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Easter Bunny Pink"/>
          <p:cNvPicPr/>
          <p:nvPr/>
        </p:nvPicPr>
        <p:blipFill>
          <a:blip r:embed="rId3"/>
          <a:stretch/>
        </p:blipFill>
        <p:spPr>
          <a:xfrm>
            <a:off x="2724120" y="6858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Easter Bunny Blue"/>
          <p:cNvPicPr/>
          <p:nvPr/>
        </p:nvPicPr>
        <p:blipFill>
          <a:blip r:embed="rId4"/>
          <a:stretch/>
        </p:blipFill>
        <p:spPr>
          <a:xfrm>
            <a:off x="1295280" y="1066680"/>
            <a:ext cx="2381400" cy="3333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Easter Bunny Pink"/>
          <p:cNvPicPr/>
          <p:nvPr/>
        </p:nvPicPr>
        <p:blipFill>
          <a:blip r:embed="rId5"/>
          <a:stretch/>
        </p:blipFill>
        <p:spPr>
          <a:xfrm>
            <a:off x="5334120" y="1066680"/>
            <a:ext cx="2381040" cy="3333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Easter Bunny Blue"/>
          <p:cNvPicPr/>
          <p:nvPr/>
        </p:nvPicPr>
        <p:blipFill>
          <a:blip r:embed="rId6"/>
          <a:stretch/>
        </p:blipFill>
        <p:spPr>
          <a:xfrm>
            <a:off x="6762600" y="1447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Easter Bunny Pink"/>
          <p:cNvPicPr/>
          <p:nvPr/>
        </p:nvPicPr>
        <p:blipFill>
          <a:blip r:embed="rId7"/>
          <a:stretch/>
        </p:blipFill>
        <p:spPr>
          <a:xfrm>
            <a:off x="0" y="1523880"/>
            <a:ext cx="2381400" cy="3333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80880" y="4648320"/>
            <a:ext cx="838224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4398000">
            <a:off x="762120" y="1978560"/>
            <a:ext cx="385920" cy="838440"/>
          </a:xfrm>
          <a:prstGeom prst="flowChartOnlineStorage">
            <a:avLst/>
          </a:prstGeom>
          <a:solidFill>
            <a:srgbClr val="fdc3e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ferici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4410000">
            <a:off x="2057040" y="1522080"/>
            <a:ext cx="384120" cy="838440"/>
          </a:xfrm>
          <a:prstGeom prst="flowChartOnlineStorag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ho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4371600">
            <a:off x="3491640" y="1144080"/>
            <a:ext cx="381240" cy="838440"/>
          </a:xfrm>
          <a:prstGeom prst="flowChartOnlineStorage">
            <a:avLst/>
          </a:prstGeom>
          <a:solidFill>
            <a:srgbClr val="fdc3e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6216600">
            <a:off x="6542280" y="1521360"/>
            <a:ext cx="385920" cy="838440"/>
          </a:xfrm>
          <a:prstGeom prst="flowChartOnlineStorage">
            <a:avLst/>
          </a:prstGeom>
          <a:solidFill>
            <a:srgbClr val="fdc3e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î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6492600">
            <a:off x="5251320" y="1143000"/>
            <a:ext cx="384120" cy="838080"/>
          </a:xfrm>
          <a:prstGeom prst="flowChartOnlineStorag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iepuraş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6528600">
            <a:off x="7988040" y="1901880"/>
            <a:ext cx="380880" cy="838080"/>
          </a:xfrm>
          <a:prstGeom prst="flowChartOnlineStorag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pr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766800">
            <a:off x="5257440" y="837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934000">
            <a:off x="838440" y="1676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1125400">
            <a:off x="3581280" y="837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624000">
            <a:off x="8000640" y="15998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91400">
            <a:off x="6552720" y="1218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0868600">
            <a:off x="2057400" y="1219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5867280"/>
            <a:ext cx="6581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dc3e8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elicitări! Ai lucrat corect!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dc3e8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2286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Comic Sans MS"/>
              </a:rPr>
              <a:t>Aceeaşi sarcină ca la pagina anterioa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7" descr="clipminniecompu"/>
          <p:cNvPicPr/>
          <p:nvPr/>
        </p:nvPicPr>
        <p:blipFill>
          <a:blip r:embed="rId2"/>
          <a:stretch/>
        </p:blipFill>
        <p:spPr>
          <a:xfrm>
            <a:off x="2895480" y="38098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410080" y="5943600"/>
            <a:ext cx="45720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52480" y="533520"/>
            <a:ext cx="587700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că ţi-a plăcut,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une şi tu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semenea exerciţii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asă.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295280" y="838080"/>
            <a:ext cx="32958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lizat de înv. Florica Plosca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Şcoala "Dariu Pop"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tu Mare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amond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877000">
            <a:off x="2286000" y="533520"/>
            <a:ext cx="501336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9617600">
            <a:off x="5029200" y="990720"/>
            <a:ext cx="1441440" cy="2200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385600">
            <a:off x="2590560" y="990360"/>
            <a:ext cx="1523880" cy="220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438280"/>
            <a:ext cx="674640" cy="83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52600">
            <a:off x="5866920" y="1980720"/>
            <a:ext cx="674640" cy="83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990720"/>
            <a:ext cx="67464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76520"/>
            <a:ext cx="67464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657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5715000"/>
            <a:ext cx="144756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artoon Mushroom"/>
          <p:cNvPicPr/>
          <p:nvPr/>
        </p:nvPicPr>
        <p:blipFill>
          <a:blip r:embed="rId3"/>
          <a:stretch/>
        </p:blipFill>
        <p:spPr>
          <a:xfrm>
            <a:off x="8229600" y="6019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Cartoon Mushroom"/>
          <p:cNvPicPr/>
          <p:nvPr/>
        </p:nvPicPr>
        <p:blipFill>
          <a:blip r:embed="rId4"/>
          <a:stretch/>
        </p:blipFill>
        <p:spPr>
          <a:xfrm>
            <a:off x="0" y="614376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artoon Mushroom"/>
          <p:cNvPicPr/>
          <p:nvPr/>
        </p:nvPicPr>
        <p:blipFill>
          <a:blip r:embed="rId5"/>
          <a:stretch/>
        </p:blipFill>
        <p:spPr>
          <a:xfrm>
            <a:off x="8381880" y="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artoon Mushroom"/>
          <p:cNvPicPr/>
          <p:nvPr/>
        </p:nvPicPr>
        <p:blipFill>
          <a:blip r:embed="rId6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52280" y="274320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2666880"/>
            <a:ext cx="2743200" cy="2438640"/>
          </a:xfrm>
          <a:custGeom>
            <a:avLst/>
            <a:gdLst>
              <a:gd name="textAreaLeft" fmla="*/ 158040 w 2743200"/>
              <a:gd name="textAreaRight" fmla="*/ 2585160 w 2743200"/>
              <a:gd name="textAreaTop" fmla="*/ 158040 h 2438640"/>
              <a:gd name="textAreaBottom" fmla="*/ 2280600 h 243864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629400" y="3733920"/>
            <a:ext cx="19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AVO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Comic Sans MS"/>
              </a:rPr>
              <a:t>Scrie, în casete, cuvinte folosind literele de pe ciuperc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9810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 căsuţa ciupercă, după fiecare cuvânt scris,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848720" y="47242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5665E-006 C -0.00018 0.00555 -0.00035 0.0111 5E-006 0.02105 C 0.00035 0.03099 -0.00347 0.05087 0.00157 0.0592 C 0.00661 0.06752 0.02154 0.06798 0.03022 0.07191 C 0.0389 0.07584 0.04636 0.06382 0.054 0.08255 C 0.06164 0.10128 0.06893 0.14243 0.07622 0.18382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5896E-006 C -0.00503 0.00278 -0.01007 0.00555 -3.33333E-006 0.01203 C 0.01007 0.0185 0.04462 0.03237 0.06025 0.03838 C 0.07587 0.0444 0.08351 0.03931 0.09358 0.04833 C 0.10365 0.05734 0.09375 0.0763 0.12066 0.09295 C 0.14757 0.1096 0.23177 0.13549 0.25556 0.14729 C 0.27934 0.15908 0.26216 0.15723 0.26337 0.1637 C 0.26459 0.17018 0.26389 0.17781 0.26337 0.1859 E">
                                      <p:cBhvr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5896E-006 C -0.00052 0.01041 -0.00104 0.02081 -3.33333E-006 0.03376 C 0.00105 0.04671 0.00174 0.0689 0.00625 0.07769 C 0.01077 0.08648 0.01493 0.08278 0.02691 0.08578 C 0.03889 0.08879 0.05955 0.09388 0.07778 0.09596 C 0.09601 0.09781 0.11684 0.09688 0.13646 0.09781 C 0.15608 0.09896 0.17483 0.10104 0.19514 0.10174 C 0.21545 0.10243 0.24098 0.09989 0.25868 0.10174 C 0.27639 0.10382 0.28837 0.10752 0.30157 0.11376 C 0.31476 0.12023 0.31893 0.1348 0.33802 0.13989 C 0.35712 0.14497 0.39618 0.14497 0.4158 0.14382 C 0.43542 0.14266 0.44896 0.12879 0.45556 0.13364 C 0.46216 0.13873 0.45556 0.16509 0.45556 0.17364 C 0.45556 0.18243 0.45556 0.18405 0.45556 0.1859 E">
                                      <p:cBhvr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5896E-006 C 0.00087 -2.65896E-006 0.00191 -2.65896000000007E-006 0.01459 0.00185 C 0.02743 0.0037 0.0533 0.00601 0.07622 0.01272 C 0.09896 0.02012 0.13889 0.0252 0.15243 0.04416 C 0.16598 0.06312 0.14844 0.10567 0.15712 0.12601 C 0.16598 0.14613 0.17778 0.15862 0.20417 0.16578 C 0.23056 0.17364 0.28039 0.17087 0.31615 0.17018 C 0.35174 0.16948 0.38611 0.16486 0.41823 0.16139 C 0.45035 0.15838 0.4849 0.15214 0.50903 0.15029 C 0.53316 0.14798 0.54705 0.15029 0.5625 0.15029 C 0.57813 0.15029 0.59167 0.15052 0.60295 0.15029 C 0.61441 0.15006 0.62396 0.14613 0.63073 0.14775 C 0.63733 0.15006 0.6415 0.1489 0.64358 0.16139 C 0.64584 0.17434 0.64358 0.22174 0.64358 0.2259 C 0.64358 0.23029 0.64358 0.20786 0.64358 0.18544 E">
                                      <p:cBhvr>
                                        <p:cTn id="3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34340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1080" y="21337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2860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124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343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819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3733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5053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8769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743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6095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5334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809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5053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981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8088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12193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05740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289548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229600" y="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5715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229600" y="57150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37339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4724280" y="48006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95680" y="4572000"/>
            <a:ext cx="1828800" cy="22860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286000"/>
              <a:gd name="textAreaBottom" fmla="*/ 2167560 h 2286000"/>
            </a:gdLst>
            <a:ahLst/>
            <a:rect l="textAreaLeft" t="textAreaTop" r="textAreaRight" b="textAreaBottom"/>
            <a:pathLst>
              <a:path w="21600" h="26999">
                <a:moveTo>
                  <a:pt x="0" y="0"/>
                </a:moveTo>
                <a:lnTo>
                  <a:pt x="21600" y="0"/>
                </a:lnTo>
                <a:lnTo>
                  <a:pt x="21600" y="26999"/>
                </a:lnTo>
                <a:lnTo>
                  <a:pt x="0" y="26999"/>
                </a:lnTo>
                <a:close/>
              </a:path>
              <a:path fill="lightenLess" w="21600" h="269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9">
                <a:moveTo>
                  <a:pt x="21600" y="0"/>
                </a:moveTo>
                <a:lnTo>
                  <a:pt x="21600" y="26999"/>
                </a:lnTo>
                <a:lnTo>
                  <a:pt x="20200" y="25599"/>
                </a:lnTo>
                <a:lnTo>
                  <a:pt x="20200" y="1400"/>
                </a:lnTo>
                <a:close/>
              </a:path>
              <a:path fill="darkenLess" w="21600" h="26999">
                <a:moveTo>
                  <a:pt x="21600" y="26999"/>
                </a:moveTo>
                <a:lnTo>
                  <a:pt x="0" y="26999"/>
                </a:lnTo>
                <a:lnTo>
                  <a:pt x="1400" y="25599"/>
                </a:lnTo>
                <a:lnTo>
                  <a:pt x="20200" y="25599"/>
                </a:lnTo>
                <a:close/>
              </a:path>
              <a:path fill="lighten" w="21600" h="26999">
                <a:moveTo>
                  <a:pt x="0" y="269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00800" y="4572000"/>
            <a:ext cx="2228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arte bin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5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Formează şi scrie cinci cuvinte, din două şi trei silabe, cu ajutorul literelor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553080" y="594360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10552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, pentru a-ţi primi recomp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60958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8.09249E-007 C -0.00139 -0.0067 -0.00278 -0.01317 -0.00487 -0.03607 C -0.00695 -0.05896 -0.01007 -0.09826 -0.01268 -0.13734 C -0.01528 -0.17641 -0.01928 -0.21988 -0.02066 -0.27052 C -0.02205 -0.32115 -0.02066 -0.3882 -0.02066 -0.44185 C -0.02066 -0.49549 -0.02084 -0.55306 -0.02066 -0.5919 C -0.02049 -0.63075 -0.02657 -0.6578 -0.0191 -0.67445 C -0.01164 -0.69109 0.00608 -0.69133 0.02379 -0.69133 E">
                                      <p:cBhvr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C -0.00487 1.50289E-006 -0.00955 0.000230000000000001 -0.01268 -0.02543 C -0.0158 -0.0511 -0.01789 -0.10543 -0.01893 -0.15445 C -0.01997 -0.20347 -0.01893 -0.26289 -0.01893 -0.3193 C -0.01893 -0.37572 -0.01858 -0.45087 -0.01893 -0.49248 C -0.01928 -0.5341 -0.0231 -0.55329 -0.02066 -0.56878 C -0.01823 -0.58428 -0.01129 -0.58289 -0.00469 -0.58566 C 0.00191 -0.58844 0.01042 -0.58705 0.0191 -0.58566 E">
                                      <p:cBhvr>
                                        <p:cTn id="4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50289E-006 C -0.0007 -0.00347 -0.00122 -0.0067 -0.00156 -0.03815 C -0.00191 -0.06959 -0.00139 -0.13364 -0.00156 -0.18821 C -0.00174 -0.24277 -0.00104 -0.32115 -0.00313 -0.36578 C -0.00521 -0.4104 -0.0158 -0.44 -0.01424 -0.45665 C -0.01268 -0.47329 -0.00035 -0.46428 0.00625 -0.4652 C 0.01284 -0.46613 0.01909 -0.46451 0.02534 -0.46289 E"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3.4104E-006 C 0.00017 -0.01364 -0.00122 -0.02705 -0.00156 -0.05202 C -0.00208 -0.07699 -0.00156 -0.11167 -0.00156 -0.14913 C -0.00156 -0.18682 -0.00156 -0.24531 -0.00156 -0.27768 C -0.00156 -0.31005 -0.00573 -0.33294 -0.00156 -0.34404 C 0.00278 -0.35514 0.01372 -0.34982 0.025 -0.34404 E">
                                      <p:cBhvr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6821E-007 C 5E-006 -0.01156 5E-006 -0.02289 5E-006 -0.04647 C 5E-006 -0.07005 -0.00035 -0.11514 5E-006 -0.1415 C 0.00034 -0.16786 5.00000000000001E-006 -0.19213 0.00157 -0.20508 C 0.00313 -0.21803 0.00504 -0.21734 0.00955 -0.21988 C 0.01407 -0.22242 0.02483 -0.21988 0.02848 -0.21988 E"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76520" y="2057400"/>
            <a:ext cx="121896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09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e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77120" y="2209680"/>
            <a:ext cx="121896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r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3352680"/>
            <a:ext cx="121932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505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00400" y="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38480" y="762120"/>
            <a:ext cx="121932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9144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a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715000"/>
            <a:ext cx="144756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8153280" y="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0" y="595296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8153280" y="595296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57200" y="411480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38862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40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40" y="20200"/>
                </a:lnTo>
                <a:lnTo>
                  <a:pt x="23440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0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77120" y="411480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cităr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049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Comic Sans MS"/>
              </a:rPr>
              <a:t>Scrie cuvintele răsturn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228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Comic Sans MS"/>
              </a:rPr>
              <a:t>Alcătuieşte cu fiecare o propoziţ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848720" y="48769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1148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87692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0578E-006 C 0.02066 0.01572 0.0415 0.03168 0.05868 0.03792 C 0.07587 0.04416 0.09549 0.02705 0.10313 0.03792 C 0.11077 0.04879 0.10764 0.07607 0.10469 0.10358 E">
                                      <p:cBhvr>
                                        <p:cTn id="7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6.99422E-006 C 0.00452 0.00047 0.00904 0.00093 0.03022 0.00209 C 0.0514 0.00323 0.10522 0.00186 0.12709 0.00648 C 0.14897 0.0111 0.15035 0.02151 0.16199 0.0296 C 0.17362 0.03769 0.17813 0.05018 0.19671 0.05503 C 0.21563 0.05989 0.25799 0.05365 0.27466 0.0592 C 0.29133 0.06475 0.29324 0.08186 0.29688 0.08879 C 0.30053 0.09573 0.29862 0.0985 0.29688 0.10151 E">
                                      <p:cBhvr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0.00747 -2.48555000000001E-006 0.01511 -0.00046 0.03177 0.00023 C 0.04844 0.0007 0.0757 0.00208 0.1 0.00231 C 0.12431 0.00255 0.15348 0.00231 0.17778 0.00231 C 0.20209 0.00231 0.22361 -0.00347 0.24601 0.00231 C 0.26841 0.00833 0.29427 0.02775 0.31268 0.03862 C 0.33108 0.04948 0.33455 0.06127 0.35712 0.06798 C 0.37969 0.07468 0.42691 0.07422 0.44775 0.07954 C 0.46858 0.08463 0.47709 0.09457 0.48264 0.09989 E">
                                      <p:cBhvr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6.99422E-006 C 0.00626 6.99422E-006 0.01251 0.00024 0.03976 0.0044 C 0.06702 0.00856 0.11494 0.0185 0.16355 0.02544 C 0.21216 0.03238 0.27605 0.04301 0.33178 0.04648 C 0.38751 0.04995 0.45348 0.04602 0.49845 0.04648 C 0.54324 0.04694 0.5764 0.04833 0.60174 0.04879 C 0.62709 0.04925 0.64029 0.04186 0.65088 0.04879 C 0.66147 0.05573 0.66268 0.08139 0.66511 0.09087 C 0.66754 0.10035 0.66633 0.1029 0.66511 0.10567 E">
                                      <p:cBhvr>
                                        <p:cTn id="8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584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62520" y="990720"/>
            <a:ext cx="121896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562720" y="838080"/>
            <a:ext cx="289548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00800" y="1600200"/>
            <a:ext cx="121932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38080" y="1371600"/>
            <a:ext cx="289584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76520" y="2133720"/>
            <a:ext cx="121896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29000" y="2590920"/>
            <a:ext cx="2895480" cy="2819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267080" y="3352680"/>
            <a:ext cx="121932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c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219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ro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uş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715000"/>
            <a:ext cx="144792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5715000"/>
            <a:ext cx="144792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715000"/>
            <a:ext cx="144756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715000"/>
            <a:ext cx="144792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8077320" y="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0" y="5867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8077320" y="5867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533520" y="396252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373392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0" y="3581280"/>
            <a:ext cx="1209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avo!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152280"/>
            <a:ext cx="21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Comic Sans MS"/>
              </a:rPr>
              <a:t>Aceeaşi sarcină ca la pagina anterioa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772400" y="47242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2670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029200"/>
            <a:ext cx="838440" cy="152280"/>
          </a:xfrm>
          <a:prstGeom prst="leftArrow">
            <a:avLst>
              <a:gd name="adj1" fmla="val 50000"/>
              <a:gd name="adj2" fmla="val 137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6.35838E-007 C 0.00088 6.35838E-007 0.00192 6.35838E-007 0.01268 6.35838E-007 C 0.02344 6.35838E-007 0.05487 -0.00462 0.06511 6.35838E-007 C 0.07535 0.00463 0.07206 0.01734 0.07449 0.02752 C 0.07692 0.03769 0.07692 0.04786 0.07935 0.06127 C 0.08178 0.07468 0.08525 0.0911 0.0889 0.10775 E">
                                      <p:cBhvr>
                                        <p:cTn id="9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48555E-006 C 0.00989 0.00046 0.01996 0.00116 0.03507 0.00208 C 0.05017 0.00301 0.07187 0.00416 0.09062 0.00624 C 0.10937 0.00832 0.12587 0.01064 0.14774 0.0148 C 0.16962 0.01896 0.20295 0.02567 0.22222 0.03168 C 0.24149 0.03769 0.2566 0.03792 0.26354 0.05064 C 0.27048 0.06335 0.26701 0.08555 0.26354 0.10775 E">
                                      <p:cBhvr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62428E-006 C 0.00782 -0.00023 0.0158 -0.00046 0.04115 4.62428E-006 C 0.0665 0.00046 0.11754 0.00115 0.15226 0.00231 C 0.18698 0.00347 0.22188 0.00324 0.24914 0.00647 C 0.27639 0.00971 0.29306 0.01711 0.3158 0.02127 C 0.33855 0.02543 0.3599 0.02798 0.3856 0.03191 C 0.41129 0.03584 0.45122 0.03769 0.4698 0.04439 C 0.48837 0.0511 0.49219 0.06127 0.49671 0.07191 C 0.50122 0.08254 0.49896 0.09526 0.49671 0.10798 E">
                                      <p:cBhvr>
                                        <p:cTn id="10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C -0.00538 0.00093 -0.01076 0.00232 0.01111 0.00232 C 0.03299 0.00232 0.09063 -0.00069 0.1316 -3.3526E-006 C 0.17257 0.0007 0.21407 0.00671 0.25712 0.00694 C 0.30018 0.00717 0.34688 0.00232 0.39045 0.00232 C 0.43403 0.00232 0.47848 0.00532 0.51893 0.00694 C 0.55938 0.00833 0.60816 0.00555 0.63334 0.0118 C 0.65851 0.01781 0.66459 0.02891 0.6698 0.04463 C 0.675 0.06012 0.66997 0.08278 0.66493 0.10544 E">
                                      <p:cBhvr>
                                        <p:cTn id="10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38480" y="914400"/>
            <a:ext cx="1219320" cy="9907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coj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095880" y="1905120"/>
            <a:ext cx="1219320" cy="9903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371600" y="144792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57400" y="2057400"/>
            <a:ext cx="1219320" cy="9907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cap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429000" y="251460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114800" y="3124080"/>
            <a:ext cx="1219320" cy="9907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848720" y="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0" y="577224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7848720" y="577224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71600" y="5715000"/>
            <a:ext cx="160020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838080" y="38862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3657600"/>
            <a:ext cx="2133720" cy="1676520"/>
          </a:xfrm>
          <a:custGeom>
            <a:avLst/>
            <a:gdLst>
              <a:gd name="textAreaLeft" fmla="*/ 108360 w 2133720"/>
              <a:gd name="textAreaRight" fmla="*/ 2025360 w 21337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7120" y="342900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celent!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Ce cuvinte obţii dacă citeşti invers cuvintele date? Scrie-le în cas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286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Alcătuieşte propoziţii cu fie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87692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848720" y="4648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C 0.00538 0.00902 0.01093 0.0185 0.02066 0.03191 C 0.03038 0.04532 0.05243 0.06336 0.05868 0.08093 C 0.06493 0.09827 0.0618 0.11769 0.05868 0.13735 E">
                                      <p:cBhvr>
                                        <p:cTn id="11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10405E-006 C 0.01631 -0.00115 0.03263 -0.00208 0.05242 -0.00208 C 0.07222 -0.00208 0.0993 -0.00254 0.11909 -4.10405E-006 C 0.13888 0.00255 0.15555 0.00948 0.17135 0.01272 C 0.18715 0.01596 0.20433 0.01203 0.21423 0.01896 C 0.22413 0.0259 0.22777 0.03607 0.2302 0.0548 C 0.23263 0.07353 0.23055 0.1022 0.22847 0.1311 E">
                                      <p:cBhvr>
                                        <p:cTn id="12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0.0368 -0.00069 0.07378 -0.00138 0.10312 9.24855E-007 C 0.13246 0.00139 0.15538 0.00347 0.17621 0.00833 C 0.19704 0.01318 0.21319 0.02243 0.22847 0.0296 C 0.24374 0.03677 0.24999 0.04601 0.26822 0.05064 C 0.28645 0.05526 0.3177 0.05573 0.33802 0.05688 C 0.35833 0.05804 0.37638 0.05619 0.39045 0.05688 C 0.40451 0.05758 0.4151 0.04902 0.42222 0.06127 C 0.42933 0.07353 0.43124 0.1022 0.43333 0.13087 E">
                                      <p:cBhvr>
                                        <p:cTn id="12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C 0.03194 0.00763 0.06406 0.0155 0.11111 0.01873 C 0.15816 0.02197 0.23993 0.01688 0.28246 0.01873 C 0.325 0.02104 0.33385 0.02775 0.36666 0.0296 C 0.39913 0.03122 0.44618 0.0296 0.47899 0.0296 C 0.5118 0.0296 0.54479 0.02914 0.56354 0.0296 C 0.58211 0.02983 0.58576 0.02336 0.59045 0.03145 C 0.59514 0.03977 0.59149 0.06313 0.59201 0.07862 C 0.59253 0.09434 0.59305 0.11006 0.59357 0.12625 E">
                                      <p:cBhvr>
                                        <p:cTn id="12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438280" cy="2248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33920" y="1219320"/>
            <a:ext cx="12952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po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76720" y="2819520"/>
            <a:ext cx="243828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09880" y="3429000"/>
            <a:ext cx="129564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su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243828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791320" y="2286000"/>
            <a:ext cx="12952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243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min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295280" y="1752480"/>
            <a:ext cx="2438640" cy="2248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828800" y="2362320"/>
            <a:ext cx="12952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14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târâ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5715000"/>
            <a:ext cx="160020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5715000"/>
            <a:ext cx="17524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5715000"/>
            <a:ext cx="160020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815328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5335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3657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40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40" y="20200"/>
                </a:lnTo>
                <a:lnTo>
                  <a:pt x="23440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0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943600" y="3962520"/>
            <a:ext cx="2057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avo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Aceeaşi sarcină ca la pagina anterioară. Dă şi tu exemple de asemenea cuvi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848720" y="4800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40384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4724280"/>
            <a:ext cx="914400" cy="15264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5.49133E-006 C 0.00088 0.02381 0.00209 0.04832 0.01719 0.06311 C 0.0323 0.07814 0.07501 0.08462 0.09029 0.09086 C 0.10556 0.0971 0.10643 0.09317 0.10938 0.10126 C 0.11233 0.10913 0.1099 0.12439 0.10765 0.13942 E">
                                      <p:cBhvr>
                                        <p:cTn id="14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78035E-007 C -0.00243 0.00324 -0.00469 0.00647 3.61111E-006 0.0148 C 0.00469 0.02312 0.01285 0.03977 0.02847 0.05063 C 0.0441 0.0615 0.07083 0.07283 0.09358 0.08023 C 0.11632 0.08763 0.13889 0.09364 0.1651 0.09503 C 0.19132 0.09641 0.22934 0.08948 0.25069 0.08878 C 0.27205 0.08809 0.28559 0.08254 0.29358 0.09087 C 0.30156 0.09919 0.3 0.1193 0.29844 0.13942 E">
                                      <p:cBhvr>
                                        <p:cTn id="14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0289E-006 C 0.00278 0.01688 0.00556 0.03376 0.0158 0.04231 C 0.02604 0.05087 0.03767 0.04393 0.06181 0.05087 C 0.08594 0.0578 0.12691 0.07861 0.16024 0.08462 C 0.19358 0.09064 0.22951 0.08624 0.26181 0.0867 C 0.2941 0.08717 0.32517 0.0867 0.35399 0.0867 C 0.38281 0.0867 0.41372 0.0867 0.4349 0.0867 C 0.45608 0.0867 0.47118 0.07931 0.4809 0.0867 C 0.49062 0.0941 0.49201 0.1126 0.49358 0.1311 E">
                                      <p:cBhvr>
                                        <p:cTn id="15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1.50289E-006 C -0.00381 0.00393 -0.00763 0.00786 6.11111E-006 0.02127 C 0.00765 0.03468 0.01529 0.06913 0.04601 0.08046 C 0.07674 0.09179 0.1356 0.08717 0.18404 0.08879 C 0.23247 0.0904 0.28959 0.09156 0.33647 0.09087 C 0.38334 0.09017 0.42813 0.08578 0.46511 0.08462 C 0.50209 0.08347 0.53143 0.08485 0.55869 0.08462 C 0.58594 0.08439 0.61112 0.08069 0.62848 0.08254 C 0.64584 0.08439 0.65695 0.08647 0.66338 0.09526 C 0.6698 0.10405 0.66615 0.12902 0.66667 0.13526 E">
                                      <p:cBhvr>
                                        <p:cTn id="15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981080" y="6094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733920" y="609480"/>
            <a:ext cx="1904760" cy="3353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486400" y="6094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238880" y="609480"/>
            <a:ext cx="1905120" cy="3353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992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648320"/>
            <a:ext cx="198144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5943600"/>
            <a:ext cx="198144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6483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594360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46483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594360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731520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4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162920" y="41148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40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40" y="20200"/>
                </a:lnTo>
                <a:lnTo>
                  <a:pt x="23440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0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9880" y="2514600"/>
            <a:ext cx="2362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xcelent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Grupează silabele pentru a obţine cuvinte. Scrie-le în casete şi alcătuieşte cu ele enunţ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68580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91520" y="39625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368600">
            <a:off x="8456760" y="4138200"/>
            <a:ext cx="685800" cy="206280"/>
          </a:xfrm>
          <a:prstGeom prst="leftArrow">
            <a:avLst>
              <a:gd name="adj1" fmla="val 50000"/>
              <a:gd name="adj2" fmla="val 83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6821E-006 C -0.00156 -0.00301 -0.00295 -0.00532 -0.00955 -0.01318 C -0.01614 -0.02058 -0.02361 -0.03792 -0.03976 -0.04648 C -0.0559 -0.05526 -0.07708 -0.06104 -0.10642 -0.06405 C -0.13576 -0.06682 -0.17604 -0.06405 -0.21597 -0.06405 C -0.2559 -0.06405 -0.30278 -0.06405 -0.34618 -0.06405 C -0.38958 -0.06405 -0.43663 -0.06312 -0.47621 -0.06405 C -0.5158 -0.06497 -0.54114 -0.06821 -0.5842 -0.06891 C -0.62726 -0.0696 -0.68125 -0.0696 -0.73507 -0.06891 E">
                                      <p:cBhvr>
                                        <p:cTn id="16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6821E-006 C 0.00018 -0.00763 0.00052 -0.0148 -0.01892 -0.02867 C -0.03837 -0.04255 -0.08906 -0.07515 -0.11736 -0.08347 C -0.14566 -0.0918 -0.15607 -0.08023 -0.18889 -0.07908 C -0.2217 -0.07815 -0.26319 -0.08 -0.31423 -0.077 C -0.36528 -0.07422 -0.43021 -0.06798 -0.49514 -0.06174 E">
                                      <p:cBhvr>
                                        <p:cTn id="170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57225E-006 C 0.00278 -0.00902 0.00556 -0.01781 -0.00156 -0.02729 C -0.00868 -0.03677 0.000699999999999999 -0.04949 -0.04288 -0.05688 C -0.08646 -0.06428 -0.175 -0.06798 -0.26354 -0.07168 E">
                                      <p:cBhvr>
                                        <p:cTn id="17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6474E-006 C -0.02726 0.02681 -0.05434 0.05363 -0.06996 0.06982 C -0.08559 0.086 -0.08368 0.09202 -0.09375 0.09733 C -0.10382 0.10265 -0.11007 0.09895 -0.13021 0.1015 C -0.15035 0.10404 -0.11649 0.10959 -0.21441 0.11213 C -0.31233 0.11468 -0.51493 0.11537 -0.71753 0.11629 E">
                                      <p:cBhvr>
                                        <p:cTn id="1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79769E-006 C -0.00434 0.00601 -0.00868 0.01202 -0.0158 0.02335 C -0.02291 0.03468 -0.02535 0.05434 -0.04288 0.06775 C -0.06041 0.08116 -0.04583 0.0948 -0.12066 0.10359 C -0.19548 0.11237 -0.34375 0.1163 -0.49201 0.12046 E">
                                      <p:cBhvr>
                                        <p:cTn id="18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6474E-006 C -0.00694 0.00739 -0.01371 0.01479 -0.02378 0.02959 C -0.03385 0.04439 -0.04062 0.07652 -0.06024 0.08878 C -0.07986 0.10103 -0.1092 0.09942 -0.14114 0.10358 C -0.17309 0.10774 -0.21267 0.11098 -0.25226 0.11421 E">
                                      <p:cBhvr>
                                        <p:cTn id="18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514600" y="14479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243828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133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144792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6765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182880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2895480"/>
            <a:ext cx="60948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89548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8195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205740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89548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990720" y="5410080"/>
            <a:ext cx="838080" cy="104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362320" y="50292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2895480" y="5029200"/>
            <a:ext cx="542880" cy="495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666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2133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15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s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46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2286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676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548000">
            <a:off x="3355920" y="1353600"/>
            <a:ext cx="76212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53352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129528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05740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81952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58128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34340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66680" cy="1171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0" y="58672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8077320" y="0"/>
            <a:ext cx="1066680" cy="117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6095880" y="548640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715000" y="5181480"/>
            <a:ext cx="1676520" cy="1447920"/>
          </a:xfrm>
          <a:custGeom>
            <a:avLst/>
            <a:gdLst>
              <a:gd name="textAreaLeft" fmla="*/ 93600 w 1676520"/>
              <a:gd name="textAreaRight" fmla="*/ 1582920 w 16765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33720" y="5791320"/>
            <a:ext cx="29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arte bin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1522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Comic Sans MS"/>
              </a:rPr>
              <a:t>Aceeaşi sarcină ca la pagina anterioa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7848720" y="51814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24280" y="4952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529400">
            <a:off x="5334120" y="53341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903 -0.0037 -0.01805 -0.00717 -0.03003 -0.01919 C -0.04201 -0.03122 -0.06319 -0.04833 -0.07135 -0.07214 C -0.07951 -0.09572 -0.07795 -0.12786 -0.07934 -0.16093 C -0.08073 -0.19376 -0.07916 -0.2333 -0.07934 -0.26844 C -0.07951 -0.30359 -0.08038 -0.33572 -0.0809 -0.37226 C -0.08142 -0.40856 -0.08246 -0.45133 -0.08229 -0.48648 C -0.08212 -0.52139 -0.08125 -0.54914 -0.07934 -0.58151 C -0.07743 -0.61388 -0.07153 -0.6548 -0.07135 -0.68093 C -0.07118 -0.70705 -0.07448 -0.72255 -0.07778 -0.73781 E">
                                      <p:cBhvr>
                                        <p:cTn id="19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04046E-006 C -0.01336 0.00254 -0.02656 0.00509 -0.03941 -0.00208 C -0.05243 -0.00925 -0.06909 -0.01757 -0.07708 -0.04231 C -0.08524 -0.06705 -0.08767 -0.11422 -0.08784 -0.15006 C -0.08802 -0.18589 -0.08038 -0.21248 -0.07882 -0.2578 C -0.07725 -0.30312 -0.07864 -0.37873 -0.07882 -0.42266 C -0.07916 -0.46659 -0.08038 -0.49433 -0.08072 -0.52208 C -0.0809 -0.54983 -0.08107 -0.57179 -0.08072 -0.58983 C -0.0802 -0.60786 -0.07968 -0.61896 -0.07882 -0.62983 E">
                                      <p:cBhvr>
                                        <p:cTn id="202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5.14451E-006 C -0.00468 -0.00161 -0.00937 -0.003 -0.02048 -0.00855 C -0.03159 -0.0141 -0.05607 -0.01641 -0.06666 -0.03375 C -0.07725 -0.05109 -0.08141 -0.08369 -0.08402 -0.11213 C -0.08662 -0.14057 -0.08298 -0.16647 -0.08246 -0.20508 C -0.08194 -0.24369 -0.08141 -0.2934 -0.08089 -0.3445 C -0.08037 -0.3956 -0.07985 -0.45364 -0.07933 -0.51167 E">
                                      <p:cBhvr>
                                        <p:cTn id="206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00578E-006 C -0.0151 -0.00346 -0.03021 -0.00693 -0.04132 -0.01271 C -0.05243 -0.01849 -0.0592 -0.01641 -0.06666 -0.03398 C -0.07413 -0.05156 -0.08264 -0.08924 -0.08576 -0.11838 C -0.08889 -0.14751 -0.08576 -0.1778 -0.08576 -0.20924 C -0.08576 -0.24069 -0.08628 -0.2756 -0.08576 -0.30659 C -0.08524 -0.33757 -0.08385 -0.36647 -0.08246 -0.39537 E">
                                      <p:cBhvr>
                                        <p:cTn id="21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5.14451E-006 C -0.01718 0.00209 -0.03437 0.0044 -0.04912 -0.00624 C -0.06388 -0.01687 -0.08246 -0.04069 -0.08888 -0.06335 C -0.0953 -0.08601 -0.08905 -0.1156 -0.08714 -0.14173 C -0.08523 -0.16786 -0.07933 -0.19444 -0.07777 -0.21988 C -0.07621 -0.24531 -0.07707 -0.26959 -0.07777 -0.29387 E">
                                      <p:cBhvr>
                                        <p:cTn id="21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2.36994E-006 C -0.01058 0.003 -0.02117 0.00624 -0.03176 0.00231 C -0.04235 -0.00162 -0.05468 -0.00624 -0.06336 -0.02312 C -0.07204 -0.04 -0.08055 -0.077 -0.08402 -0.09919 C -0.08749 -0.12139 -0.08454 -0.14127 -0.08402 -0.1563 C -0.0835 -0.17133 -0.08229 -0.18081 -0.0809 -0.19006 E">
                                      <p:cBhvr>
                                        <p:cTn id="218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3:14:48Z</dcterms:created>
  <dc:creator>ligia</dc:creator>
  <dc:description/>
  <dc:language>en-US</dc:language>
  <cp:lastModifiedBy>ligia</cp:lastModifiedBy>
  <dcterms:modified xsi:type="dcterms:W3CDTF">2009-04-04T13:15:58Z</dcterms:modified>
  <cp:revision>1</cp:revision>
  <dc:subject/>
  <dc:title>Slide 1</dc:title>
</cp:coreProperties>
</file>